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399-C4CE-4EC7-B44C-E9767563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DCA-18BD-44C3-A1D0-23446286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C1C-2A70-44BB-990A-8B53963D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48E-5194-46F6-826B-62D5E34B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DE9-5A82-4492-991E-B3550F8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0F3-68E6-4D55-A230-D250518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0E4-1E09-4BC2-807D-FFB774E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1BB-9A82-4705-BE19-2E86A227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A48-515C-43FA-B56A-A9F5107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747-EFA9-4624-AEE0-2593043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855-1C47-415A-9ADB-419E668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244-5931-4A40-90A7-5F69676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2EF-AFF2-41B1-BAF7-D9E0147E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ลุ่มที่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พัฒนาคณาจารย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นโยบายต้องชัด ทุกระดับ และต้องแตกในทุกประเด็น ครอบคลุมในด้านงบประมาณ ระยะ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ยายามทำให้งานวิจัยเป็นงานประจำให้เป็นระบ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ทำงานวิจัยแบบทีม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365720"/>
            <a:ext cx="82296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วลัยลักษณ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นำเอ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Based Learning : PB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าประยุกต์ใช้ให้เหมาะสม ทำให้นักศึกษาสนใจในการเรียน กล้าแสดงออกมากขึ้นเกิดการทำงานเป็นทีม  นอกจากนี้ส่งผลให้อาจารย์เก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มหาวิทยาลัยมหิด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รวมพลังอาจารย์มหาวิทยาลัยจัดกิจกรรมร่วมกัน มีเครือข่ายในทุกๆ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ิจกรรมพัฒนาความสัมพันธ์ระหว่างอาจารย์ เพื่อสร้างแนวคิดในการบูรณาการด้านการจัดการเรียนการสอน สร้างความสัมพันธ์กับเครือข่ายทั้งมหาวิทยาลัย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0766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นเรศว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นโยบายผู้บริหารชัดเจ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จัดสรรงบประมาณเรื่องต่างๆ อยู่ในระดับที่รับ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เสริมแรง การให้ค่าตอบแทน โบนั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หาวิทยาลัยสงขลานครินทร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วิทยาเขตตรัง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คณะกรรมการสนับสนุนงานวิจัย ซึ่งก็คืออาจารย์ในสาขาในการขับเคลื่อนพัฒนางานวิจัยเชื่อมโยงกับวิทยาเขตอื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ทำงานวิจัยเป็นทีม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ะบบพี่เลี้ยง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นโยบายชัดเจน มีเงินทุนสนับสนุนด้านงาน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มาตรฐานกำหนด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ต้องมีผลงาน หรื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ต้องมีผล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วิทยาเขตปัตตานี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หาวิทยาลัยมีวารสารเพื่อให้อาจารย์นำผลงานมาตีพิมพ์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อาจารย์ที่เป็นนักวิจัยหน้าให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นโยบายชัดเจน ออกเป็นประกา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หาวิทยาลัยราชภัฏมหาสารคา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ทำงานวิจัยร่วมกัน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หว่างคณะต่างๆ ในมหาวิทยาลัย เช่น คณะเกษตรฯ ร่วมกับ คณะวิทยาการจัด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น้นให้บริการสู่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ให้อาจารย์ร่วมกับสถาบันทั้งในและนอกประเทศ เพื่อแลกเปลี่ยนอาจารย์เป็นการสร้างเครือข่ายแลกเปลี่ยนเรียนรู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ดกิจกรรมให้อาจารย์มีจิตสำนึกคุณธรรมในการเป็นอาจารย์  รักลูกศิษย์เหมือนลูกตัวเ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จัดท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ook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ลดการใช้ทรัพยากร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รายชื่อ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รอนงค์    ขันเดช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นุวัฒศิริ       พุทธิดิลก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อำนวย         วิชัยวงษ์ มหาวิทยาลัยราชภัฎ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ยนันทวัฒน์    ฟองมณีมหาวิทยาลัยวลัยลักษ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รสีห์    วัฒนวิกย์กิจมหาวิทยาลัยวลัยลักษ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ิชาภา        ชัยชาญมหาวิทยาลัยมหาสารคา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งสโรชา           อ้องแสนคำวิทยาลัยบัณฑิตศึกษาการจัดการ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ิติกานต์      จันทร์แย้มมหาวิทยาลัยสงขลานครินทร์วิทยาเขตตรั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นางพิสมัย           เพียรเจริญมหาวิทยาลัยสงขลานครินทร์วิทยาเขตปัตตาน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พญ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พินดา  คูณมี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ผ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ุนันทา         วิบูลย์จันทร์มหาวิทยาลัยมหิด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มบูรณ์           เทียนายา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พ็ญศิริ     นภีรงค์มหาวิทยาลัยนเรศว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ชาญชัย             รัตนวิบูลย์มหาวิทยาลัยนเรศว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ศ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สัญญา         ร้อยสมมุติมหาวิทยาลัยขอนแก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พัฒนาการคณาจาร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ฐมนิเทศ และอบรมอาจารย์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พี่เลี้ยงสำหรับอาจารย์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พัฒนาอาจาร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ึกษาต่อระดับปริญญาเอกหรือสูงกว่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องทุนตำร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วิจัยเสนอผลงานทางวิชา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ำนักนวัตกรรมการเรียนการ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การประเมินบุคลาก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บบประเมินการเรียนการสอนโดยนักศึกษาผ่านออนไลน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ับระบบค่าตอบแท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ถาบันพัฒนาทรัพยากรมนุษย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ขอนแก่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ณีคณะแพทยศาสตร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ด้านคุณธรรม จริยธ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ฝึกอบรมด้านการเรียนการสอน และการให้บริ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มหิด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ด้า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ุนสนับสนุ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พี่เลี้ยงนักวิจัย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ทีมวิจัย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ร้างเครือข่ายวิจัยร่ว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ดเวที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ด้านการเรียนการ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นโยบาย ด้านอาจารย์ใหม่เข้ารับการฝึกอบรมด้านการเรียนการสอน โดยใช้แนวค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แพทยศาสตร์ศึกษ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ุ่นๆล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ใหม่อายุงานต่ำกว่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าจารย์เก่าจะต้องเข้ารับการอบรมทุก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ึกษาดูงา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บรมด้านการศึกษาโดยคณะหน่วยงานให้การสนับสนุ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สงขลานครินท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รับทุนการศึกษาจากสกอ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ฉพาะวิทยาเขตปัตตานี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ทเรียนสำหรับอาจารย์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– Boo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เรียนรู้ด้านการพัฒนาอาจารย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เรียนการสอนระหว่างวิทยาเข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ค่าตอบแทนให้กับอาจารย์วุฒิปริญญาเอกในแต่ละวิทยาเขต เช่น วิทยาเขตปัตตานี ได้รับค่าตอบแท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,0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าท วิทยาเขตหาดใหญ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,0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าท โดยมีเงื่อนไขว่าต้องมีอายุการทำงา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ีขึ้นไ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นเรศว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นับสนุนการพัฒนาด้านภาษาอังกฤษ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อ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F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พื่อเรียนต่อต่างประเท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ระบบการให้รางวัลแก่ผู้ที่ได้รับตำแหน่งทางวิชากา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าสตราจารย์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มีการฝึกอบรมด้านการเรียนการสอนอย่างสม่ำเสม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่งเสริมการเรียนต่อในระดั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Doctoral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ดยมหาวิทยาลัยให้ทุนสนับสนุ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รรหาอาจารย์ที่เรียนจบปริญญาเอกเพื่อพัฒนาเป็นมหาวิทยาลัยแห่ง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ะมีเงินรางวัลให้กับผู้ได้รับตำแหน่งทางวิชาการระดับศาสตราจารย์ จำนว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,00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หาวิทยาลัยราชภัฏมหาสารคา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ชุมชน พัฒนาชุมชน ให้ชุมชนมีส่วนร่ว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ัดทำแผนพัฒนาบุคลากรด้านการวิจัย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น้นชุมช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การศึกษาต่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ะตุ้นให้อาจารย์มีจิตสำนึกรัก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งเสริมให้อาจารย์มีวัฒนธรรมที่ด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ระบบประเมินอาจารย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งเสริมให้อาจารย์มีการอบร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ฐมนิเทศอาจารย์ให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อาจารย์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ากประเทศเยอรมันนี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ีการแลกเปลี่ยนนักศึกษา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ยอรมั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วียดนาม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มหาวิทยาลัยวลัยลักษณ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นโยบายหลัก พัฒนาอาจารย์ปริญญาเอก จากเดิ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%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ภายใ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รับอาจารย์ใหม่ถ้าไม่มีประสบการณ์ต้องนำเสนอผลงานวิชาการเพื่อเป็นข้อมูลในการพัฒน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ศึกษาต่อ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จะถามความพร้อม ให้เวล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เพื่อการพัฒนาเพื่อบรรจุเป็นอาจารย์ประจำ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ารประเมินจะประเมินปีล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ครั้ง เพื่อปรับเป็นอาจารย์ประจ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ุน มีทุนอบร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-15,0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าทต่อปี บางรา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0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ต่อ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บรม จะมีโปรแกรมสนับสนุนด้านการออกข้อสอบกับการเรียนการส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BL / e-learning / M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บรมภาษาอังกฤ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ักษะด้า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(power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ีศูนย์สอ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8:16Z</dcterms:created>
  <dc:creator>User</dc:creator>
  <dc:description/>
  <dc:language>en-US</dc:language>
  <cp:lastModifiedBy>User</cp:lastModifiedBy>
  <dcterms:modified xsi:type="dcterms:W3CDTF">2010-03-22T09:00:20Z</dcterms:modified>
  <cp:revision>4</cp:revision>
  <dc:subject/>
  <dc:title>กลุ่มที่ 1 การพัฒนาคณาจารย์</dc:title>
</cp:coreProperties>
</file>